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28CF-9D84-4089-AEA8-FFBE39120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C1C3-3C47-48DD-8EE1-41165AD6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D02A-3762-45A7-B649-846315522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BF7E-84AF-4576-9C73-18CEB7E02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F46D-958E-4A98-B872-06034FDAC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D050-BDD5-4314-9B51-078C7BAA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BC53E-C5B1-4396-9B5D-9B5184BC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43E4-0EB4-4ECA-90B5-9B56777A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51B7-1DFC-4052-B177-A8D33AD8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9FBA-018B-4177-B1AE-B738233D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00F7-1054-47F7-B2E0-6726EAAE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D76F-D9FC-45BA-85EE-8A37D100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D356-C8E8-4945-B2CA-CA28614C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403C9-3605-4535-8BE5-8A3607B3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F215F-03A5-47AD-A6F3-C8581388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4FDE4-7A28-499E-8131-16C2111E9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2574C-B1DD-4D81-8703-394B7BBEF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C9D9-A903-47EE-8742-1109A622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702F-321F-4920-AD4A-317EFEBF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F9BE-ED50-41FC-BEDE-EA3D6EB3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E29B-10D4-4B92-A91E-79487408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CCD4-2999-4969-846C-F29D6FF3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7DB6-2136-48CC-8771-91B28962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5B26-1D5F-47F2-B855-EBF6FE61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3B27-B9FD-4F6F-8C60-FFDEC0A29D8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98720" y="2286000"/>
            <a:ext cx="460872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UŁAMKI ZWYKŁ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AB10-C3D6-4595-B79A-FE8A2E1E4A2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hyperlink" Target="http://pl.wikipedia.org/wiki/Arabia" TargetMode="External"/><Relationship Id="rId4" Type="http://schemas.openxmlformats.org/officeDocument/2006/relationships/hyperlink" Target="http://pl.wikipedia.org/wiki/Algieria" TargetMode="External"/><Relationship Id="rId5" Type="http://schemas.openxmlformats.org/officeDocument/2006/relationships/hyperlink" Target="http://pl.wikipedia.org/wiki/Bid&#380;aja" TargetMode="External"/><Relationship Id="rId6" Type="http://schemas.openxmlformats.org/officeDocument/2006/relationships/hyperlink" Target="http://pl.wikipedia.org/wiki/Egipt" TargetMode="External"/><Relationship Id="rId7" Type="http://schemas.openxmlformats.org/officeDocument/2006/relationships/hyperlink" Target="http://pl.wikipedia.org/wiki/Syria" TargetMode="Externa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ROZWIĄŻ REB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Obraz 130" descr=""/>
          <p:cNvPicPr/>
          <p:nvPr/>
        </p:nvPicPr>
        <p:blipFill>
          <a:blip r:embed="rId1"/>
          <a:stretch/>
        </p:blipFill>
        <p:spPr>
          <a:xfrm>
            <a:off x="2322360" y="954000"/>
            <a:ext cx="5311800" cy="51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ĆWICZE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93440" y="1267560"/>
            <a:ext cx="175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Zapisz ułamk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25560" y="1986840"/>
            <a:ext cx="65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sześć dziewiąt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szesnaście trzydziestych trzec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 czterdzieści osiem sto jedenast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) dwadzieścia dwa pięćdziesiątych trzec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TROCHĘ HISTORI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15920" y="1042560"/>
            <a:ext cx="792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ż w roku 300 p.n.e. w swojej książce Euklides „Elementy Euklidesa” wspomina o używaniu ułamków do obliczeń. W starożytnym Egipcie również posługiwano się ułamkami. Oto niektóre z nich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Obraz 134" descr=""/>
          <p:cNvPicPr/>
          <p:nvPr/>
        </p:nvPicPr>
        <p:blipFill>
          <a:blip r:embed="rId1"/>
          <a:stretch/>
        </p:blipFill>
        <p:spPr>
          <a:xfrm>
            <a:off x="1916280" y="2038320"/>
            <a:ext cx="5310000" cy="1390680"/>
          </a:xfrm>
          <a:prstGeom prst="rect">
            <a:avLst/>
          </a:prstGeom>
          <a:ln w="0">
            <a:noFill/>
          </a:ln>
        </p:spPr>
      </p:pic>
      <p:pic>
        <p:nvPicPr>
          <p:cNvPr id="102" name="Obraz 135" descr="http://t3.gstatic.com/images?q=tbn:ANd9GcTpJxOaFD4UI0IkJNoHdv8Z2Rvx_HEtkWj5Tm4ValIFJHwt7l40Vw"/>
          <p:cNvPicPr/>
          <p:nvPr/>
        </p:nvPicPr>
        <p:blipFill>
          <a:blip r:embed="rId2"/>
          <a:stretch/>
        </p:blipFill>
        <p:spPr>
          <a:xfrm>
            <a:off x="692280" y="3743280"/>
            <a:ext cx="1638000" cy="22161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502000" y="3653280"/>
            <a:ext cx="6435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Kreskę ułamkową wprowadził </a:t>
            </a:r>
            <a:r>
              <a:rPr b="1" lang="pl-PL" sz="1800" spc="-1" strike="noStrike">
                <a:solidFill>
                  <a:srgbClr val="6666ff"/>
                </a:solidFill>
                <a:latin typeface="Arial"/>
              </a:rPr>
              <a:t>Fibonacci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włoski matematyk. Pierwsze lekcje matematyki pobierał od </a:t>
            </a:r>
            <a:r>
              <a:rPr b="0" lang="pl-PL" sz="18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arabskiego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nauczyciela w mieście Boużia (dziś </a:t>
            </a:r>
            <a:r>
              <a:rPr b="0" lang="pl-PL" sz="18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algierska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Bidżaja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). Dużo podróżował najpierw odwiedzając i kształcąc się w takich miejscach jak </a:t>
            </a:r>
            <a:r>
              <a:rPr b="0" lang="pl-PL" sz="1800" spc="-1" strike="noStrike" u="sng">
                <a:solidFill>
                  <a:srgbClr val="990033"/>
                </a:solidFill>
                <a:uFillTx/>
                <a:latin typeface="Arial"/>
                <a:hlinkClick r:id="rId6"/>
              </a:rPr>
              <a:t>Egipt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 u="sng">
                <a:solidFill>
                  <a:srgbClr val="990033"/>
                </a:solidFill>
                <a:uFillTx/>
                <a:latin typeface="Arial"/>
                <a:hlinkClick r:id="rId7"/>
              </a:rPr>
              <a:t>Syria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, Prowansja, Grecja i Sycylia. W czasie swych podróży po Europie i po krajach Wschodu miał okazję poznać osiągnięcia matematyków arabskich i hinduskich, między innymi poznał dziesiętny system liczbow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UŁAMEK ZWYKŁ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08800" y="1042200"/>
            <a:ext cx="57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łamek to liczba określająca część pewnej całoś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48240" y="1432440"/>
            <a:ext cx="9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rzykł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Obraz 137" descr=""/>
          <p:cNvPicPr/>
          <p:nvPr/>
        </p:nvPicPr>
        <p:blipFill>
          <a:blip r:embed="rId1"/>
          <a:stretch/>
        </p:blipFill>
        <p:spPr>
          <a:xfrm>
            <a:off x="1062000" y="1859040"/>
            <a:ext cx="3132000" cy="1569960"/>
          </a:xfrm>
          <a:prstGeom prst="rect">
            <a:avLst/>
          </a:prstGeom>
          <a:ln w="0">
            <a:noFill/>
          </a:ln>
        </p:spPr>
      </p:pic>
      <p:pic>
        <p:nvPicPr>
          <p:cNvPr id="109" name="Obraz 138" descr=""/>
          <p:cNvPicPr/>
          <p:nvPr/>
        </p:nvPicPr>
        <p:blipFill>
          <a:blip r:embed="rId2"/>
          <a:stretch/>
        </p:blipFill>
        <p:spPr>
          <a:xfrm>
            <a:off x="701640" y="4734000"/>
            <a:ext cx="4054680" cy="13795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821640" y="4508640"/>
            <a:ext cx="1441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32000" y="3429000"/>
            <a:ext cx="0" cy="112392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11280" y="3787920"/>
            <a:ext cx="225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dzieliłeś się z kolegą czekoladą częstując go 6 kostkam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2360" y="2257920"/>
            <a:ext cx="4005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ff"/>
                </a:solidFill>
                <a:latin typeface="Arial"/>
              </a:rPr>
              <a:t>Czyli oddałeś koledze 6 kostek z 15, co możemy zapisać w postaci ułamk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02360" y="2867040"/>
            <a:ext cx="0" cy="1123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867360" y="4103640"/>
            <a:ext cx="689040" cy="1303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600960" y="410328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My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ś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l 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35960" y="5184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jako 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107400" y="5633640"/>
            <a:ext cx="2111040" cy="651960"/>
            <a:chOff x="6107400" y="5633640"/>
            <a:chExt cx="2111040" cy="651960"/>
          </a:xfrm>
        </p:grpSpPr>
        <p:sp>
          <p:nvSpPr>
            <p:cNvPr id="119" name=""/>
            <p:cNvSpPr/>
            <p:nvPr/>
          </p:nvSpPr>
          <p:spPr>
            <a:xfrm>
              <a:off x="6599880" y="5633640"/>
              <a:ext cx="97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ześciu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107400" y="5948280"/>
              <a:ext cx="199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z piętnastu kostek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92720" y="5948640"/>
              <a:ext cx="2025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BUDOWA UŁAM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Obraz 139" descr=""/>
          <p:cNvPicPr/>
          <p:nvPr/>
        </p:nvPicPr>
        <p:blipFill>
          <a:blip r:embed="rId1"/>
          <a:stretch/>
        </p:blipFill>
        <p:spPr>
          <a:xfrm>
            <a:off x="1916280" y="1409760"/>
            <a:ext cx="6030720" cy="1209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511280" y="3282480"/>
            <a:ext cx="73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ianownik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jest informacja na ile części została podzielona całość, w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cznik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atomiast ile części zabraliś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142000" y="4419720"/>
            <a:ext cx="5811120" cy="1199880"/>
            <a:chOff x="2142000" y="4419720"/>
            <a:chExt cx="5811120" cy="1199880"/>
          </a:xfrm>
        </p:grpSpPr>
        <p:sp>
          <p:nvSpPr>
            <p:cNvPr id="127" name=""/>
            <p:cNvSpPr/>
            <p:nvPr/>
          </p:nvSpPr>
          <p:spPr>
            <a:xfrm>
              <a:off x="2142000" y="4853160"/>
              <a:ext cx="108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66ff"/>
                  </a:solidFill>
                  <a:latin typeface="Arial"/>
                  <a:ea typeface="Times New Roman"/>
                </a:rPr>
                <a:t>U</a:t>
              </a:r>
              <a:r>
                <a:rPr b="1" lang="en-US" sz="2000" spc="-1" strike="noStrike">
                  <a:solidFill>
                    <a:srgbClr val="6666ff"/>
                  </a:solidFill>
                  <a:latin typeface="Arial"/>
                </a:rPr>
                <a:t>ł</a:t>
              </a:r>
              <a:r>
                <a:rPr b="1" lang="en-US" sz="2000" spc="-1" strike="noStrike">
                  <a:solidFill>
                    <a:srgbClr val="6666ff"/>
                  </a:solidFill>
                  <a:latin typeface="Arial"/>
                  <a:ea typeface="Times New Roman"/>
                </a:rPr>
                <a:t>ame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3490560" y="4419720"/>
                  <a:ext cx="612360" cy="119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29" name=""/>
            <p:cNvSpPr/>
            <p:nvPr/>
          </p:nvSpPr>
          <p:spPr>
            <a:xfrm>
              <a:off x="4430160" y="4823280"/>
              <a:ext cx="352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66ff"/>
                  </a:solidFill>
                  <a:latin typeface="Arial"/>
                  <a:ea typeface="Times New Roman"/>
                </a:rPr>
                <a:t>czytamy: sze</a:t>
              </a:r>
              <a:r>
                <a:rPr b="1" lang="en-US" sz="2000" spc="-1" strike="noStrike">
                  <a:solidFill>
                    <a:srgbClr val="6666ff"/>
                  </a:solidFill>
                  <a:latin typeface="Arial"/>
                </a:rPr>
                <a:t>ść</a:t>
              </a:r>
              <a:r>
                <a:rPr b="1" lang="en-US" sz="2000" spc="-1" strike="noStrike">
                  <a:solidFill>
                    <a:srgbClr val="6666ff"/>
                  </a:solidFill>
                  <a:latin typeface="Arial"/>
                  <a:ea typeface="Times New Roman"/>
                </a:rPr>
                <a:t> pi</a:t>
              </a:r>
              <a:r>
                <a:rPr b="1" lang="en-US" sz="2000" spc="-1" strike="noStrike">
                  <a:solidFill>
                    <a:srgbClr val="6666ff"/>
                  </a:solidFill>
                  <a:latin typeface="Arial"/>
                </a:rPr>
                <a:t>ę</a:t>
              </a:r>
              <a:r>
                <a:rPr b="1" lang="en-US" sz="2000" spc="-1" strike="noStrike">
                  <a:solidFill>
                    <a:srgbClr val="6666ff"/>
                  </a:solidFill>
                  <a:latin typeface="Arial"/>
                  <a:ea typeface="Times New Roman"/>
                </a:rPr>
                <a:t>tnastyc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WIERS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10560" y="1897560"/>
            <a:ext cx="622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Arial"/>
              </a:rPr>
              <a:t>Jestem sobie kreską ułamkow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Arial"/>
              </a:rPr>
              <a:t>Do dzielenia wciąż gotow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Arial"/>
              </a:rPr>
              <a:t>Licznik stoi nade mn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Arial"/>
              </a:rPr>
              <a:t>Mianownik pode mn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ĆWICZE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2360" y="862920"/>
            <a:ext cx="49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Zapisz w postaci ułamka, ile części zabra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80560" y="1358280"/>
            <a:ext cx="77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) na ile części została podzielona babka piaskowa, ile części zabr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Obraz 140" descr=""/>
          <p:cNvPicPr/>
          <p:nvPr/>
        </p:nvPicPr>
        <p:blipFill>
          <a:blip r:embed="rId1"/>
          <a:stretch/>
        </p:blipFill>
        <p:spPr>
          <a:xfrm>
            <a:off x="2906640" y="1854360"/>
            <a:ext cx="3759120" cy="1846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816280" y="3691800"/>
            <a:ext cx="44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……………………        …………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61640" y="3967920"/>
            <a:ext cx="74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) na ile części podzielono czekoladowe serce, a ile części zabr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Obraz 141" descr=""/>
          <p:cNvPicPr/>
          <p:nvPr/>
        </p:nvPicPr>
        <p:blipFill>
          <a:blip r:embed="rId2"/>
          <a:stretch/>
        </p:blipFill>
        <p:spPr>
          <a:xfrm>
            <a:off x="3311640" y="4419720"/>
            <a:ext cx="3151080" cy="17082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862360" y="6211080"/>
            <a:ext cx="44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……………………        …………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ĆWICZE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2360" y="862920"/>
            <a:ext cx="49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Zapisz w postaci ułamka, ile części zabra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78400" y="1358280"/>
            <a:ext cx="61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) z ilu klocków składa się budowla, ile kloców zabr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2360" y="3691800"/>
            <a:ext cx="44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……………………        …………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60560" y="4231440"/>
            <a:ext cx="60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) z ilu kloców składa się rysunek, ile kloców zabr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62360" y="6211080"/>
            <a:ext cx="44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……………………        …………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816280" y="1763640"/>
            <a:ext cx="3717720" cy="1927440"/>
          </a:xfrm>
          <a:prstGeom prst="rect">
            <a:avLst/>
          </a:prstGeom>
          <a:ln w="0">
            <a:noFill/>
          </a:ln>
        </p:spPr>
      </p:pic>
      <p:pic>
        <p:nvPicPr>
          <p:cNvPr id="150" name="Obraz 156" descr=""/>
          <p:cNvPicPr/>
          <p:nvPr/>
        </p:nvPicPr>
        <p:blipFill>
          <a:blip r:embed="rId2"/>
          <a:stretch/>
        </p:blipFill>
        <p:spPr>
          <a:xfrm>
            <a:off x="2411280" y="4778280"/>
            <a:ext cx="4905360" cy="11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ĆWICZE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1640" y="1305720"/>
            <a:ext cx="46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Podziel figury na równe części i zamalu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27000" y="3924000"/>
            <a:ext cx="103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 częś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792000" y="1876320"/>
          <a:ext cx="8217000" cy="168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1876320"/>
                    <a:ext cx="8217000" cy="16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132000" y="3924000"/>
            <a:ext cx="12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 częś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53080" y="3924000"/>
            <a:ext cx="12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 częś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723080" y="3924000"/>
            <a:ext cx="12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częś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ĆWICZE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92360" y="1267560"/>
            <a:ext cx="26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Zapisz ułamki słown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781280" y="1989000"/>
                <a:ext cx="1003320" cy="427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den>
                        </m:f>
                      </m:e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d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1:28:14Z</dcterms:modified>
  <cp:revision>37</cp:revision>
  <dc:subject/>
  <dc:title>Slajd 1</dc:title>
</cp:coreProperties>
</file>